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D9F4-577B-4517-8EBE-BC5AFBC8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DFF-ECD8-43EF-8FEC-113D501C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97B-E164-4E56-9247-38BA564B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28C-64B4-45B0-AC9F-6AE53D35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10C-DA47-420C-AF52-6C3DF7E7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D404-969E-4B62-8265-39C6C32A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48C3-D960-4E6F-BF73-D4930054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803-CD2A-4C12-AF71-6018F1BC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02EC-D187-44FF-8128-5B5B7A39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D4B-B2EE-4DBF-8173-AA115E70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E9F-0645-434D-B93D-4F102491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CE7E-48CC-44C9-A928-8273C365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64DB-1822-4606-BED4-C2F77714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032B-BD93-4802-A820-F04FFCC0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C642-1BA2-4103-A0DE-E20DA586E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B33-BB53-4549-BFC1-4ABAE643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rbanization After 1865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3094749_edit"/>
          <p:cNvPicPr/>
          <p:nvPr/>
        </p:nvPicPr>
        <p:blipFill>
          <a:blip r:embed="rId1"/>
          <a:stretch/>
        </p:blipFill>
        <p:spPr>
          <a:xfrm>
            <a:off x="2666880" y="220968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 flipH="1" rot="10792800">
            <a:off x="1056960" y="1135800"/>
            <a:ext cx="6934320" cy="1979640"/>
          </a:xfrm>
          <a:prstGeom prst="upArrowCallout">
            <a:avLst>
              <a:gd name="adj1" fmla="val 43562"/>
              <a:gd name="adj2" fmla="val 37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9"/>
          <p:cNvSpPr/>
          <p:nvPr/>
        </p:nvSpPr>
        <p:spPr>
          <a:xfrm>
            <a:off x="1143000" y="1214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fe was hard in the city, but most people preferred it to the coun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0"/>
          <p:cNvSpPr/>
          <p:nvPr/>
        </p:nvSpPr>
        <p:spPr>
          <a:xfrm>
            <a:off x="838080" y="3505320"/>
            <a:ext cx="74678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ildren c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ttend city schoo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urches, theaters, social clubs, and museums offer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mpanionship and entertai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city workers were able to enjoy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gher standard of living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some moved into the grow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dle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6"/>
          <p:cNvSpPr/>
          <p:nvPr/>
        </p:nvSpPr>
        <p:spPr>
          <a:xfrm>
            <a:off x="1066680" y="2362320"/>
            <a:ext cx="6934320" cy="38862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e1e1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6"/>
          <p:cNvSpPr/>
          <p:nvPr/>
        </p:nvSpPr>
        <p:spPr>
          <a:xfrm>
            <a:off x="1066680" y="114300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cities swelled in size, American innovators developed new technologi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improve living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7480" y="2362320"/>
          <a:ext cx="6553080" cy="3854160"/>
        </p:xfrm>
        <a:graphic>
          <a:graphicData uri="http://schemas.openxmlformats.org/drawingml/2006/table">
            <a:tbl>
              <a:tblPr/>
              <a:tblGrid>
                <a:gridCol w="2209680"/>
                <a:gridCol w="4343400"/>
              </a:tblGrid>
              <a:tr h="51840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echn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4025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kyscra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eel-frame buildings ten stories or taller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uilt because there was limited room left on the grou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fety elev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ators that would not fall even if the lifting rope brok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heating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s made to carry heat to all parts of a build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 flipH="1" rot="10792800">
            <a:off x="1053000" y="1294560"/>
            <a:ext cx="6934320" cy="1598760"/>
          </a:xfrm>
          <a:prstGeom prst="upArrowCallout">
            <a:avLst>
              <a:gd name="adj1" fmla="val 53940"/>
              <a:gd name="adj2" fmla="val 4586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9"/>
          <p:cNvSpPr/>
          <p:nvPr/>
        </p:nvSpPr>
        <p:spPr>
          <a:xfrm>
            <a:off x="1143000" y="14493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transi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reshaped the nati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c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0"/>
          <p:cNvSpPr/>
          <p:nvPr/>
        </p:nvSpPr>
        <p:spPr>
          <a:xfrm>
            <a:off x="1066680" y="3276720"/>
            <a:ext cx="739152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88, Richmond, Virginia started us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reetcars powered by overhead electric 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in a decade, every other major city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tric streetcars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quieter, cleaner, and more effici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n coal-driven commuter trains or horse-drawn trolle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1"/>
          <p:cNvSpPr/>
          <p:nvPr/>
        </p:nvSpPr>
        <p:spPr>
          <a:xfrm>
            <a:off x="5334120" y="129528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ffic conges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kept streetcars from running on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9"/>
          <p:cNvSpPr/>
          <p:nvPr/>
        </p:nvSpPr>
        <p:spPr>
          <a:xfrm>
            <a:off x="5334120" y="289548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97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ost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ved this problem by building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first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subway system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ew York 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llowed suit in 19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0"/>
          <p:cNvSpPr/>
          <p:nvPr/>
        </p:nvSpPr>
        <p:spPr>
          <a:xfrm>
            <a:off x="8002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ss transit made it possible for middle- and upper-class people to move to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bur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96740385_edit"/>
          <p:cNvPicPr/>
          <p:nvPr/>
        </p:nvPicPr>
        <p:blipFill>
          <a:blip r:embed="rId1"/>
          <a:stretch/>
        </p:blipFill>
        <p:spPr>
          <a:xfrm>
            <a:off x="838080" y="1432080"/>
            <a:ext cx="426744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29"/>
          <p:cNvSpPr/>
          <p:nvPr/>
        </p:nvSpPr>
        <p:spPr>
          <a:xfrm>
            <a:off x="990720" y="12193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cities grew, planners designated different parts of cities for different func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609120" y="2590560"/>
            <a:ext cx="4724280" cy="3352680"/>
            <a:chOff x="609120" y="2590560"/>
            <a:chExt cx="4724280" cy="3352680"/>
          </a:xfrm>
        </p:grpSpPr>
        <p:sp>
          <p:nvSpPr>
            <p:cNvPr id="101" name="AutoShape 4"/>
            <p:cNvSpPr/>
            <p:nvPr/>
          </p:nvSpPr>
          <p:spPr>
            <a:xfrm flipH="1" rot="5400000">
              <a:off x="1294200" y="1904400"/>
              <a:ext cx="3352680" cy="4724280"/>
            </a:xfrm>
            <a:prstGeom prst="upArrowCallout">
              <a:avLst>
                <a:gd name="adj1" fmla="val 13418"/>
                <a:gd name="adj2" fmla="val 12500"/>
                <a:gd name="adj3" fmla="val 22304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696960" y="2869920"/>
              <a:ext cx="326232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ities set aside space for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heavy industry, financial institutions, homes, and public space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such as libraries and  government building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29"/>
          <p:cNvSpPr/>
          <p:nvPr/>
        </p:nvSpPr>
        <p:spPr>
          <a:xfrm>
            <a:off x="5562720" y="2867040"/>
            <a:ext cx="327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rk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re also important to plan for.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derick Law Olms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signed many well-known parks, includ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ew York City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 Central P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0"/>
          <p:cNvSpPr/>
          <p:nvPr/>
        </p:nvSpPr>
        <p:spPr>
          <a:xfrm>
            <a:off x="380880" y="502920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oor workers lived in crowd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nem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usually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unhealthy and dangerou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use they had few windows and little sani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105520" y="23623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neighborhoods becam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overcrowde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apid population growth led to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3094749_edit"/>
          <p:cNvPicPr/>
          <p:nvPr/>
        </p:nvPicPr>
        <p:blipFill>
          <a:blip r:embed="rId1"/>
          <a:stretch/>
        </p:blipFill>
        <p:spPr>
          <a:xfrm>
            <a:off x="1219320" y="1981080"/>
            <a:ext cx="358128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 rot="10792800">
            <a:off x="1050480" y="1294920"/>
            <a:ext cx="6934320" cy="2362320"/>
          </a:xfrm>
          <a:prstGeom prst="upArrowCallout">
            <a:avLst>
              <a:gd name="adj1" fmla="val 36505"/>
              <a:gd name="adj2" fmla="val 31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9"/>
          <p:cNvSpPr/>
          <p:nvPr/>
        </p:nvSpPr>
        <p:spPr>
          <a:xfrm>
            <a:off x="1143000" y="1371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ties had filthy, unpaved streets and sanitation problems, conditions perfect for breeding epide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0"/>
          <p:cNvSpPr/>
          <p:nvPr/>
        </p:nvSpPr>
        <p:spPr>
          <a:xfrm>
            <a:off x="1066680" y="3898800"/>
            <a:ext cx="723924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olve these problems, governments and city planners tri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gulate housing, sanitation, sewers, and public heal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began to take water fro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lean reservoi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o us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ater filtration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7"/>
          <p:cNvSpPr/>
          <p:nvPr/>
        </p:nvSpPr>
        <p:spPr>
          <a:xfrm>
            <a:off x="3809880" y="1647720"/>
            <a:ext cx="4714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ies responded to the threats of fire and crim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professional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irefight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eam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form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ity poli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orce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new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lectric streetl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809880" y="4024440"/>
            <a:ext cx="471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pite the peacekeeping efforts of police, conflicts between different racial groups, classes, and neighborhoods rem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50963077_edit"/>
          <p:cNvPicPr/>
          <p:nvPr/>
        </p:nvPicPr>
        <p:blipFill>
          <a:blip r:embed="rId1"/>
          <a:stretch/>
        </p:blipFill>
        <p:spPr>
          <a:xfrm>
            <a:off x="914400" y="1038240"/>
            <a:ext cx="226836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828800"/>
            <a:ext cx="7467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causes of urban growth in the late 180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technology improved city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how city dwellers solved the problems caused by rapid urban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4678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rbaniz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ansion of cities accompanied by an increase in the number of people living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ral-to-urban migra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erson who moves from an agricultural area to a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kyscrap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ery tall building built with modern materials like st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isha Ot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veloper of a safety elevator that made skyscrapers more prac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4678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transi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ublic transportation systems that carry large numbers of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bur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idential area surrounding a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derick Law Olmste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ndscape engineer who designed Central Park in New York City and parks in other major U.S.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n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ultistory building divided into apartments to house as many families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216080" y="1708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challenges did city dwellers face, and how did they meet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216080" y="3224160"/>
            <a:ext cx="7313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y dwellers fac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oise, dirt, and crim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the cities, the hardship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actory work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overcrowded, dangerous condition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en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19320" y="4572000"/>
            <a:ext cx="731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vernments and city planners tried to alleviate dangerous condition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ke cities better, safer places to l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4919760" y="3789360"/>
            <a:ext cx="3124080" cy="2184120"/>
            <a:chOff x="4919760" y="3789360"/>
            <a:chExt cx="3124080" cy="2184120"/>
          </a:xfrm>
        </p:grpSpPr>
        <p:sp>
          <p:nvSpPr>
            <p:cNvPr id="65" name="Rectangle 3"/>
            <p:cNvSpPr/>
            <p:nvPr/>
          </p:nvSpPr>
          <p:spPr>
            <a:xfrm>
              <a:off x="4919760" y="3789360"/>
              <a:ext cx="3124080" cy="218412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"/>
            <p:cNvSpPr/>
            <p:nvPr/>
          </p:nvSpPr>
          <p:spPr>
            <a:xfrm>
              <a:off x="5072040" y="3973320"/>
              <a:ext cx="2928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is period was the beginning of an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upsurge in American 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</a:rPr>
                <a:t>urban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that brought changes to the count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1143000" y="3809880"/>
            <a:ext cx="3962520" cy="2222280"/>
            <a:chOff x="1143000" y="3809880"/>
            <a:chExt cx="3962520" cy="2222280"/>
          </a:xfrm>
        </p:grpSpPr>
        <p:sp>
          <p:nvSpPr>
            <p:cNvPr id="68" name="AutoShape 5"/>
            <p:cNvSpPr/>
            <p:nvPr/>
          </p:nvSpPr>
          <p:spPr>
            <a:xfrm rot="16200000">
              <a:off x="4152960" y="414972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5929" dir="2028877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1143000" y="3809880"/>
              <a:ext cx="3124440" cy="2222280"/>
              <a:chOff x="1143000" y="3809880"/>
              <a:chExt cx="3124440" cy="2222280"/>
            </a:xfrm>
          </p:grpSpPr>
          <p:sp>
            <p:nvSpPr>
              <p:cNvPr id="70" name="Rectangle 7"/>
              <p:cNvSpPr/>
              <p:nvPr/>
            </p:nvSpPr>
            <p:spPr>
              <a:xfrm>
                <a:off x="1143000" y="3809880"/>
                <a:ext cx="3124440" cy="2222280"/>
              </a:xfrm>
              <a:prstGeom prst="rect">
                <a:avLst/>
              </a:prstGeom>
              <a:gradFill rotWithShape="0">
                <a:gsLst>
                  <a:gs pos="0">
                    <a:srgbClr val="e8eae9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1"/>
              <p:cNvSpPr/>
              <p:nvPr/>
            </p:nvSpPr>
            <p:spPr>
              <a:xfrm>
                <a:off x="1309680" y="3964320"/>
                <a:ext cx="28814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By 1900, 32 percent—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15 million Americans—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lived in cities with populations of more than 50,000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AutoShape 9"/>
          <p:cNvSpPr/>
          <p:nvPr/>
        </p:nvSpPr>
        <p:spPr>
          <a:xfrm>
            <a:off x="2090880" y="2570040"/>
            <a:ext cx="914400" cy="1295640"/>
          </a:xfrm>
          <a:prstGeom prst="downArrow">
            <a:avLst>
              <a:gd name="adj1" fmla="val 50000"/>
              <a:gd name="adj2" fmla="val 35423"/>
            </a:avLst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"/>
          <p:cNvGrpSpPr/>
          <p:nvPr/>
        </p:nvGrpSpPr>
        <p:grpSpPr>
          <a:xfrm>
            <a:off x="1095480" y="1447920"/>
            <a:ext cx="6948360" cy="1315800"/>
            <a:chOff x="1095480" y="1447920"/>
            <a:chExt cx="6948360" cy="1315800"/>
          </a:xfrm>
        </p:grpSpPr>
        <p:sp>
          <p:nvSpPr>
            <p:cNvPr id="74" name="Rectangle 11"/>
            <p:cNvSpPr/>
            <p:nvPr/>
          </p:nvSpPr>
          <p:spPr>
            <a:xfrm>
              <a:off x="1095480" y="1447920"/>
              <a:ext cx="6948360" cy="131580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1185840" y="1544400"/>
              <a:ext cx="678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 1860, most Americans lived in rural areas, with only 16 percent living in towns or cities with a population of 8,000 or mo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rcRect l="15278" t="25899" r="20140" b="9591"/>
          <a:stretch/>
        </p:blipFill>
        <p:spPr>
          <a:xfrm>
            <a:off x="609480" y="2514600"/>
            <a:ext cx="4724640" cy="3416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9"/>
          <p:cNvSpPr/>
          <p:nvPr/>
        </p:nvSpPr>
        <p:spPr>
          <a:xfrm>
            <a:off x="609480" y="12952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erica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major cities were manufacturing and transportation cen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9"/>
          <p:cNvSpPr/>
          <p:nvPr/>
        </p:nvSpPr>
        <p:spPr>
          <a:xfrm>
            <a:off x="5638680" y="241128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ities were clustered i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ortheas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acific Coas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long the waterways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w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838080" y="3200400"/>
            <a:ext cx="70106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and rural Americans were   attracted by jobs in </a:t>
            </a: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factories or service indus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with money opened sho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Women</a:t>
            </a:r>
            <a:r>
              <a:rPr b="0" lang="ja-JP" sz="2200" spc="-1" strike="noStrike">
                <a:solidFill>
                  <a:srgbClr val="0033ff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s opportunities dramatically expande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They could work in factories, take in boarders, or be domestic serv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 flipH="1" rot="10792800">
            <a:off x="837360" y="1218960"/>
            <a:ext cx="7086600" cy="1979640"/>
          </a:xfrm>
          <a:prstGeom prst="upArrowCallout">
            <a:avLst>
              <a:gd name="adj1" fmla="val 44519"/>
              <a:gd name="adj2" fmla="val 37852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5800" y="1295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eople moved to c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seize opportun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01720" y="3100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38080" y="1905120"/>
            <a:ext cx="7467840" cy="44956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>
                  <a:alpha val="25098"/>
                </a:srgbClr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22240" y="1143000"/>
            <a:ext cx="7467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ral-to-urban migran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ved from farms to cities in the 189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981080"/>
          <a:ext cx="7391520" cy="4175280"/>
        </p:xfrm>
        <a:graphic>
          <a:graphicData uri="http://schemas.openxmlformats.org/drawingml/2006/table">
            <a:tbl>
              <a:tblPr/>
              <a:tblGrid>
                <a:gridCol w="2167200"/>
                <a:gridCol w="5224320"/>
              </a:tblGrid>
              <a:tr h="2263320">
                <a:tc>
                  <a:txBody>
                    <a:bodyPr lIns="90000" rIns="900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mmigrants, Farmers, and Migrants from the Rural 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y were attracted by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conomic opportunit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moved because it was increasingly difficult to make a living on a far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was hard for farmers to work o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igid schedules in crowded factories</a:t>
                      </a:r>
                      <a:r>
                        <a:rPr b="0" lang="en-US" sz="1800" spc="-1" strike="noStrike">
                          <a:solidFill>
                            <a:srgbClr val="0033ff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911960">
                <a:tc>
                  <a:txBody>
                    <a:bodyPr lIns="90000" rIns="900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majority of African American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stayed in southern citie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t African American migrant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aved the way for a much larger migration after World War 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50:47Z</dcterms:modified>
  <cp:revision>210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